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42FB-D8E2-4765-BCDD-1AB26769D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9BDF-3AD0-4403-9573-8DD3D4247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4962-21AB-4988-9D7E-9D7300A59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F0A9-8C92-4184-A5A6-E630DD9AA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8FA-3128-43E7-8762-6DFA8AF26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2A29-BDD6-43EE-8D90-5876D06EB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518A-A1AE-48F0-A77A-232D6A6B6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4387-77EE-4D78-B2BC-29046C11FA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071F-92D1-4084-ADB1-A27864E26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B93-E72B-4D06-B91F-E7D91526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6D8-B233-4B12-AB00-7C26820B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82A-3D40-483B-B7A6-C5220DB3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7FA-2CB3-44FC-9453-175CDEFA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0CB-B061-440E-BB97-80027C23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198-E6D5-45A8-952F-4F769736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7FA-AD7D-479A-B843-2A804DA4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09E-DEAC-4E87-8FE5-6AC1658E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987-2428-4BF7-91EA-66C545A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093-F637-4568-80CF-50F074B4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FD9-7E56-4E8A-A2D1-1D63F168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4D8-2EF0-495C-9912-1F2D27E0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4121-7ACC-44AC-A0C6-DC1D33D83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rle.ru/user/pic27053986.jpg" TargetMode="External"/><Relationship Id="rId2" Type="http://schemas.openxmlformats.org/officeDocument/2006/relationships/hyperlink" Target="http://img-fotki.yandex.ru/get/5804/alona-mera777.9/0_8e1d0_8628af03_XL" TargetMode="External"/><Relationship Id="rId3" Type="http://schemas.openxmlformats.org/officeDocument/2006/relationships/hyperlink" Target="http://file.blog-24.com/utili/90000/88000/88370/file/kelebekler/8863ab60.gif" TargetMode="External"/><Relationship Id="rId4" Type="http://schemas.openxmlformats.org/officeDocument/2006/relationships/hyperlink" Target="http://i076.radikal.ru/1005/f5/f75725796053.jpg" TargetMode="External"/><Relationship Id="rId5" Type="http://schemas.openxmlformats.org/officeDocument/2006/relationships/hyperlink" Target="http://img1.liveinternet.ru/images/attach/c/3/75/508/75508673_280827.jpg" TargetMode="External"/><Relationship Id="rId6" Type="http://schemas.openxmlformats.org/officeDocument/2006/relationships/hyperlink" Target="http://img-fotki.yandex.ru/get/4905/xsi-666.11f/0_43994_f6472f69_XL.jpg" TargetMode="External"/><Relationship Id="rId7" Type="http://schemas.openxmlformats.org/officeDocument/2006/relationships/hyperlink" Target="http://forum.materinstvo.ru/uploads/1311662932/post-30446-1311735041.jpg" TargetMode="External"/><Relationship Id="rId8" Type="http://schemas.openxmlformats.org/officeDocument/2006/relationships/hyperlink" Target="http://www.ekosilamsk.ru/wp-content/gallery/muravi/muravej_0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9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Анимированный кроссворд «НАСЕКОМЫ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3716280"/>
            <a:ext cx="48164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: Травнева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ганд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ка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У «Средняя школа №21 с. Сарыоз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Пользователь\Documents\кроссворд насекомые\животные\пчёлка.png"/>
          <p:cNvPicPr/>
          <p:nvPr/>
        </p:nvPicPr>
        <p:blipFill>
          <a:blip r:embed="rId1"/>
          <a:stretch/>
        </p:blipFill>
        <p:spPr>
          <a:xfrm rot="935400">
            <a:off x="2142720" y="3286080"/>
            <a:ext cx="18576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Пользователь\Documents\кроссворд насекомые\животные\пчёлка.png"/>
          <p:cNvPicPr/>
          <p:nvPr/>
        </p:nvPicPr>
        <p:blipFill>
          <a:blip r:embed="rId2"/>
          <a:stretch/>
        </p:blipFill>
        <p:spPr>
          <a:xfrm>
            <a:off x="407880" y="3054240"/>
            <a:ext cx="192744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50088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28880" y="0"/>
            <a:ext cx="5643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orle.ru/user/pic27053986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бабочка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804/alona-mera777.9/0_8e1d0_8628af03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бабо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ile.blog-24.com/utili/90000/88000/88370/file/kelebekler/8863ab60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76.radikal.ru/1005/f5/f75725796053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1.liveinternet.ru/images/attach/c/3/75/508/75508673_280827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кузне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4905/xsi-666.11f/0_43994_f6472f69_XL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orum.materinstvo.ru/uploads/1311662932/post-30446-1311735041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- светля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kosilamsk.ru/wp-content/gallery/muravi/muravej_0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a4.sphotos.ak.fbcdn.net/hphotos-ak-snc7/299779_179317505473270_149845395087148_408882_2826245_n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roza.ru/pics/2011/06/17/1429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муравей с л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-fotki.yandex.ru/get/5606/cadi-1986.517/0_80266_6e17ba8c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ертикальный свиток 59"/>
          <p:cNvGrpSpPr/>
          <p:nvPr/>
        </p:nvGrpSpPr>
        <p:grpSpPr>
          <a:xfrm>
            <a:off x="5694480" y="3687840"/>
            <a:ext cx="3833640" cy="3193920"/>
            <a:chOff x="5694480" y="3687840"/>
            <a:chExt cx="3833640" cy="3193920"/>
          </a:xfrm>
        </p:grpSpPr>
        <p:pic>
          <p:nvPicPr>
            <p:cNvPr id="108" name="Вертикальный свиток 59" descr=""/>
            <p:cNvPicPr/>
            <p:nvPr/>
          </p:nvPicPr>
          <p:blipFill>
            <a:blip r:embed="rId1"/>
            <a:stretch/>
          </p:blipFill>
          <p:spPr>
            <a:xfrm>
              <a:off x="5694480" y="3687840"/>
              <a:ext cx="38336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08840" y="4108320"/>
              <a:ext cx="30002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пал цвет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 вдруг прос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Больше сп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е захотел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Шевельнулся, встрепе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звился вверх и улете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1" descr="E:\кроссворд насекомые\животные\муравей2.gif"/>
          <p:cNvPicPr/>
          <p:nvPr/>
        </p:nvPicPr>
        <p:blipFill>
          <a:blip r:embed="rId2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686000">
            <a:off x="939240" y="2782440"/>
            <a:ext cx="728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8511800">
            <a:off x="7737120" y="990000"/>
            <a:ext cx="96228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E:\кроссворд насекомые\животные\бабочка3.png"/>
          <p:cNvPicPr/>
          <p:nvPr/>
        </p:nvPicPr>
        <p:blipFill>
          <a:blip r:embed="rId5"/>
          <a:stretch/>
        </p:blipFill>
        <p:spPr>
          <a:xfrm rot="19635000">
            <a:off x="7272360" y="2545920"/>
            <a:ext cx="90648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5" descr="E:\кроссворд насекомые\животные\бабочка3.png"/>
          <p:cNvPicPr/>
          <p:nvPr/>
        </p:nvPicPr>
        <p:blipFill>
          <a:blip r:embed="rId6"/>
          <a:stretch/>
        </p:blipFill>
        <p:spPr>
          <a:xfrm rot="20428200">
            <a:off x="74520" y="5116680"/>
            <a:ext cx="797040" cy="58392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8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3011400">
            <a:off x="1385280" y="5090760"/>
            <a:ext cx="114624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8"/>
          <a:stretch/>
        </p:blipFill>
        <p:spPr>
          <a:xfrm>
            <a:off x="214200" y="571680"/>
            <a:ext cx="2708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8" name="Заголовок 82"/>
          <p:cNvSpPr/>
          <p:nvPr/>
        </p:nvSpPr>
        <p:spPr>
          <a:xfrm>
            <a:off x="5000760" y="214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далее 86">
            <a:hlinkClick r:id="" action="ppaction://hlinkshowjump?jump=nextslide"/>
          </p:cNvPr>
          <p:cNvSpPr/>
          <p:nvPr/>
        </p:nvSpPr>
        <p:spPr>
          <a:xfrm>
            <a:off x="8215200" y="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3794"/>
                </a:moveTo>
                <a:lnTo>
                  <a:pt x="35078" y="10800"/>
                </a:lnTo>
                <a:lnTo>
                  <a:pt x="21065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ертикальный свиток 61"/>
          <p:cNvSpPr/>
          <p:nvPr/>
        </p:nvSpPr>
        <p:spPr>
          <a:xfrm>
            <a:off x="5786280" y="3714840"/>
            <a:ext cx="37148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за девчо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ясе т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громные 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ит – стрек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4200">
            <a:off x="853560" y="282672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3800">
            <a:off x="7952040" y="934560"/>
            <a:ext cx="880920" cy="64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4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1176400">
            <a:off x="7251480" y="1980720"/>
            <a:ext cx="88740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428200">
            <a:off x="289080" y="5258880"/>
            <a:ext cx="796680" cy="5842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2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505240" cy="2085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8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928880" y="471492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7600">
            <a:off x="1706040" y="5424120"/>
            <a:ext cx="1167120" cy="855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14680" y="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ертикальный свиток 67"/>
          <p:cNvSpPr/>
          <p:nvPr/>
        </p:nvSpPr>
        <p:spPr>
          <a:xfrm>
            <a:off x="5786280" y="3714840"/>
            <a:ext cx="364356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ил рог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шести х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доль спины себя слом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белые дост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жужжал рогу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тел, как п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673600">
            <a:off x="868680" y="282204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89080" y="5187600"/>
            <a:ext cx="796680" cy="58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489000">
            <a:off x="7610040" y="927000"/>
            <a:ext cx="1120680" cy="82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124760" y="22190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5"/>
          <a:stretch/>
        </p:blipFill>
        <p:spPr>
          <a:xfrm>
            <a:off x="214200" y="500040"/>
            <a:ext cx="2840040" cy="207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4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4200">
            <a:off x="1503000" y="5207040"/>
            <a:ext cx="1217520" cy="892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2840" y="1143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ертикальный свиток 68"/>
          <p:cNvSpPr/>
          <p:nvPr/>
        </p:nvSpPr>
        <p:spPr>
          <a:xfrm>
            <a:off x="5786280" y="3714840"/>
            <a:ext cx="357192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я взял у кузне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 – у огу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– у м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жки – у бл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287200">
            <a:off x="729720" y="28112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1744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7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260800">
            <a:off x="7095600" y="2249640"/>
            <a:ext cx="966960" cy="70776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8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054200">
            <a:off x="7554600" y="971280"/>
            <a:ext cx="1050840" cy="768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5" descr="C:\Users\Пользователь\Documents\кроссворд насекомые\животные\кузнечик2.jpg"/>
          <p:cNvPicPr/>
          <p:nvPr/>
        </p:nvPicPr>
        <p:blipFill>
          <a:blip r:embed="rId5"/>
          <a:stretch/>
        </p:blipFill>
        <p:spPr>
          <a:xfrm>
            <a:off x="142920" y="571680"/>
            <a:ext cx="2666880" cy="2000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8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3400">
            <a:off x="1549440" y="5249880"/>
            <a:ext cx="1033560" cy="758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7680" y="200016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1928880" y="4005360"/>
            <a:ext cx="48240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ертикальный свиток 69"/>
          <p:cNvSpPr/>
          <p:nvPr/>
        </p:nvSpPr>
        <p:spPr>
          <a:xfrm>
            <a:off x="5929200" y="3714840"/>
            <a:ext cx="35006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ник садов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сок мед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18972600">
            <a:off x="7633800" y="857520"/>
            <a:ext cx="100332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765400">
            <a:off x="874440" y="2628720"/>
            <a:ext cx="80640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1168000">
            <a:off x="7126200" y="1993680"/>
            <a:ext cx="935280" cy="685800"/>
          </a:xfrm>
          <a:prstGeom prst="rect">
            <a:avLst/>
          </a:prstGeom>
          <a:ln w="0">
            <a:noFill/>
          </a:ln>
        </p:spPr>
      </p:pic>
      <p:sp>
        <p:nvSpPr>
          <p:cNvPr id="370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7" descr="C:\Users\Пользователь\Documents\кроссворд насекомые\животные\пчела2.jpg"/>
          <p:cNvPicPr/>
          <p:nvPr/>
        </p:nvPicPr>
        <p:blipFill>
          <a:blip r:embed="rId5"/>
          <a:stretch/>
        </p:blipFill>
        <p:spPr>
          <a:xfrm>
            <a:off x="214200" y="571680"/>
            <a:ext cx="2828880" cy="1952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72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36200">
            <a:off x="1429920" y="5132160"/>
            <a:ext cx="1201680" cy="880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28880" y="24289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тикальный свиток 70"/>
          <p:cNvSpPr/>
          <p:nvPr/>
        </p:nvSpPr>
        <p:spPr>
          <a:xfrm>
            <a:off x="5857920" y="378612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ноченька нас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оле вспыхнул огон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там? Тлеет уголё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звёздочка упа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726400">
            <a:off x="939960" y="28220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21309000">
            <a:off x="7101720" y="1899720"/>
            <a:ext cx="1042920" cy="765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177200">
            <a:off x="7553160" y="888840"/>
            <a:ext cx="1040040" cy="76212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8" descr="C:\Users\Пользователь\Documents\кроссворд насекомые\животные\святлячок1.jpg"/>
          <p:cNvPicPr/>
          <p:nvPr/>
        </p:nvPicPr>
        <p:blipFill>
          <a:blip r:embed="rId5"/>
          <a:stretch/>
        </p:blipFill>
        <p:spPr>
          <a:xfrm>
            <a:off x="214200" y="571680"/>
            <a:ext cx="2643480" cy="2114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36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6600">
            <a:off x="1508040" y="5144760"/>
            <a:ext cx="1255680" cy="92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3880" y="3642840"/>
            <a:ext cx="42876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тикальный свиток 71"/>
          <p:cNvSpPr/>
          <p:nvPr/>
        </p:nvSpPr>
        <p:spPr>
          <a:xfrm>
            <a:off x="6000840" y="3786120"/>
            <a:ext cx="335736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окожий карап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о росту тянет гр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0600">
            <a:off x="996480" y="275544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4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4400">
            <a:off x="7785720" y="847080"/>
            <a:ext cx="1116000" cy="819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731800">
            <a:off x="7035840" y="2076120"/>
            <a:ext cx="101268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9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714760" cy="200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0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76400">
            <a:off x="1427040" y="5152680"/>
            <a:ext cx="1216080" cy="892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57880" y="33577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ертикальный свиток 72"/>
          <p:cNvSpPr/>
          <p:nvPr/>
        </p:nvSpPr>
        <p:spPr>
          <a:xfrm>
            <a:off x="5786280" y="3786120"/>
            <a:ext cx="357192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зверь, н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нос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тит – кри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ядет –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его убьё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ю 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922000">
            <a:off x="1006200" y="275400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371400">
            <a:off x="7804800" y="965520"/>
            <a:ext cx="990720" cy="726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025760" y="2155320"/>
            <a:ext cx="1055880" cy="774720"/>
          </a:xfrm>
          <a:prstGeom prst="rect">
            <a:avLst/>
          </a:prstGeom>
          <a:ln w="0">
            <a:noFill/>
          </a:ln>
        </p:spPr>
      </p:pic>
      <p:sp>
        <p:nvSpPr>
          <p:cNvPr id="56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0" descr="C:\Users\Пользователь\Documents\кроссворд насекомые\животные\комар1.jpg"/>
          <p:cNvPicPr/>
          <p:nvPr/>
        </p:nvPicPr>
        <p:blipFill>
          <a:blip r:embed="rId5"/>
          <a:stretch/>
        </p:blipFill>
        <p:spPr>
          <a:xfrm>
            <a:off x="214200" y="571680"/>
            <a:ext cx="2897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78800">
            <a:off x="1430280" y="5208480"/>
            <a:ext cx="1212840" cy="8892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85720" y="4572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00:07Z</dcterms:created>
  <dc:creator>ww</dc:creator>
  <dc:description/>
  <dc:language>en-US</dc:language>
  <cp:lastModifiedBy>Пользователь</cp:lastModifiedBy>
  <dcterms:modified xsi:type="dcterms:W3CDTF">2012-03-26T14:54:06Z</dcterms:modified>
  <cp:revision>32</cp:revision>
  <dc:subject/>
  <dc:title>Анимированный кроссворд «НАСЕКОМЫЕ»</dc:title>
</cp:coreProperties>
</file>